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90CD-935E-4F13-9A90-DBBBBC4B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F7B-A956-4F55-9FCD-2D073296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CA5-FF36-4AE7-BDAF-3C165C86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F0E5-F51F-4115-8D4A-0ADCA641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9590-BF0C-4616-A2FE-296ECA14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BBBF-1393-4795-A17E-E355C988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4F0A-973C-4AB3-AE07-5F2C81D5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0EBD-90C9-49B9-9E6B-14088F18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8BDB-4F5D-4ACB-A03B-310BF54C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8B3E-92F4-4052-9721-6E5E7A09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345B-10DF-404B-8828-034FCB26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7FC-2431-4506-854E-3160A363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DC42-350C-42BF-900A-77849143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D42C-4914-440C-ACAE-5774A57F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3558-0280-44F8-99B0-039F0AEF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19C6-2606-4BE2-A564-F5C59C7F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6177-C2A7-41E1-9FE1-63D397ED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2F3-E224-4CDB-9E2C-FAA7ACDB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888-2346-4139-8962-A0DF0DE0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C8A2-CD99-4BFA-9C44-D2C6A450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7194-7E7C-4F7A-8AB1-84A897B6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99AE-C4D5-43E9-B10A-72C19E5E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0A36-D16F-4AB8-800E-146563B2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08A-6AAA-4C0E-94D2-30999718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B19C-DD39-47BE-9860-5A2FF9D1E5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0B99-8D76-4C77-8BCF-F2B777A4D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12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ÎNTREBĂRILE COMPLEMENTUL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e cin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e ce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Despre cine? Despre ce? Pentru cin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ui? Unde? Când? De când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um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84360" y="1700280"/>
            <a:ext cx="42958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LEMENTUL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4d4d4d"/>
                </a:solidFill>
                <a:latin typeface="Arial"/>
              </a:rPr>
              <a:t>DEFINIŢIA COMPLEMENTULUI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COMPLEMENTUL ESTE PARTEA SECUNDARĂ DE PROPOZIŢIE CE DETERMINĂ UN VERB SAU UN ADJECT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b7e7ff"/>
                </a:solidFill>
                <a:latin typeface="Arial"/>
              </a:rPr>
              <a:t>COMPLEMENTUL POATE FI EXPRIMAT PRIN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SUBSTANT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PRON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NUM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ALTE PĂRŢI DE VORB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-Dă-mi </a:t>
            </a: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carte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Ionel vine de la </a:t>
            </a: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ea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Grupul se împărţi în </a:t>
            </a: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dou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Tu ştii </a:t>
            </a: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a scri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Mâine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să vii pe lac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99"/>
                </a:solidFill>
                <a:latin typeface="Arial"/>
              </a:rPr>
              <a:t>Acolo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se află comoa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b7e7ff"/>
                </a:solidFill>
                <a:latin typeface="Arial"/>
              </a:rPr>
              <a:t>COMPLEMENTU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Formulaţi propoziţii în care să aveţi complement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folosindu-vă de imaginea alăturat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ffffff"/>
                </a:solidFill>
                <a:latin typeface="Arial"/>
              </a:rPr>
              <a:t>Identificaţi complementele şi părţile de vorbire prin care sunt exprim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41720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7:37:49Z</dcterms:created>
  <dc:creator>PC001</dc:creator>
  <dc:description/>
  <dc:language>en-US</dc:language>
  <cp:lastModifiedBy>ANCA</cp:lastModifiedBy>
  <dcterms:modified xsi:type="dcterms:W3CDTF">2009-05-10T12:35:30Z</dcterms:modified>
  <cp:revision>6</cp:revision>
  <dc:subject/>
  <dc:title>COMPLEMENTUL</dc:title>
</cp:coreProperties>
</file>